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1F0-482C-4D97-9695-748B7D77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DBD-3E61-4983-A1E2-4D60A589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EC7-51B4-4D1C-BB06-5E093FD3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788-80A2-4AEA-A035-0775E768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AC5D5-1E80-4916-AF15-F9360AA4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3A29-FE33-4E34-BABB-37A3E40B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6CCD-D37F-440D-B1B6-625F2ABB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39D0-C52A-4D6B-8FD0-8894B972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464E-CFAC-415B-B892-EEAFC203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B905-0C28-46CA-9232-A7DA03B3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B8F6-2588-4C37-98D5-245CC215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944-EE3E-41E7-8F68-1A026A68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77EA-035A-4F43-868D-4C7ECE17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E2E6-BC6A-4E71-B4D9-69BE346E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46F0-019D-447F-B618-415171D9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9ECB-FA3E-46F6-98E0-FDA91092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4F42-8EBB-4D1A-B981-9B975222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6A8-96D8-4F15-8045-BBE3714A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B6B-6541-4322-8EBB-51DF2313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8EB-E86A-45F3-82DE-28ED3D25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D49-9C25-4DFD-A0C9-9CE04A63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0EE-DE05-48B5-AAB5-B32C7F23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1452-1D66-4483-9270-48AE3189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18B-381D-45B4-A2DC-A641CE56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2F48-29B8-47FB-A808-93E68FA83E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9E29B-2BC4-4E03-9B18-37AB7720D98E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70c0"/>
                </a:solidFill>
                <a:latin typeface="Times New Roman"/>
              </a:rPr>
              <a:t>Учебные задачи и учебные действия при </a:t>
            </a:r>
            <a:br>
              <a:rPr sz="3200"/>
            </a:b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боте с одаренными детьми, соблюдение  преемственности при подготовке к олимпиадам.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9280" y="5157360"/>
            <a:ext cx="5688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rcRect l="27692" t="0" r="27583" b="0"/>
          <a:stretch/>
        </p:blipFill>
        <p:spPr>
          <a:xfrm>
            <a:off x="6156360" y="3645000"/>
            <a:ext cx="2808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50920" y="907560"/>
            <a:ext cx="777240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 знание речевых норм русского языка и понимание их обусловленности языковой системо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выки синхронного и диахронического морфемного и словообразовательного анализ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морфологической системы русского языка и навыки морфологического анализа слов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синтаксической системы русского языка и умение анализировать синтаксические явления повышенной слож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Типы заданий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я условно можно объединить в три больших блока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ст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ч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ворческие зада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я тестового характера могут проверять знание трудных случаев орфографии и пунктуации, владение орфоэпическими и грамматическими нормами, навыки морфемного и синтаксического разбора и т. п. (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тавьте пропущенные буквы…, раскройте скобки…, расставьте знаки препинания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…,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черкните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…, </a:t>
            </a:r>
            <a:r>
              <a:rPr b="0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ыделите графически…, постройте схему…, укажите номер правильного ответа</a:t>
            </a: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…, и др.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1904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нгвистические тесты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нгвистические задачи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99640" y="1857240"/>
            <a:ext cx="80550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ингвистические задачи – это задания эвристического характера, требующие а) знаний в разных областях русского языка, б) навыков морфемного, словообразовательного, этимологического, морфологического и синтаксического анализа, в) языкового чутья и лингвистической догадки, г) использования общих исследовательских приемов (наблюдение, описание, сопоставление, систематизация, обобщение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rcRect l="27692" t="0" r="27583" b="0"/>
          <a:stretch/>
        </p:blipFill>
        <p:spPr>
          <a:xfrm>
            <a:off x="7380360" y="1778040"/>
            <a:ext cx="1282680" cy="1913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626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ворческие задания, направленные на создание развернутых высказываний, текстов также можно рассмотреть в составе двух групп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ворческие задания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539892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0080" y="201456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группа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 модели текста к тексту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группа: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 текста к тексту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786720" y="4071960"/>
            <a:ext cx="13539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6520" y="206028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я первого типа обнаруживают владение навыками построения связного тематически целостного и стилистически единого текста, умение выбрать форму, соответствующую содержанию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71280" y="2060640"/>
            <a:ext cx="79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Tahoma"/>
              </a:rPr>
              <a:t>Утро было славное, свежее; маленькие пестрые тучки стояли барашками на бледно-ясной лазури; мелкая роса высыпала на листьях и травах, блистала серебром на паутинках; влажная темная земля, казалось, еще хранила румяный след зари; со всего неба сыпались песни жаворонков.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ahoma"/>
              </a:rPr>
              <a:t>Прочитайте фрагменты романа И. С. Тургенева «Отцы и дети» и найдите в них слова с уменьшительными и оценочными суффиксами. Какие значения выражают эти суффиксы? Какие слова текста помогают это определить? Обобщите свои наблюдения в виде вывода, оформив его как многочленное сложноподчиненное предложение.</a:t>
            </a: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ную работу можно вести следующим образом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 каждом уроке проводить орфоэпические диктанты, упражнения по орфоэпии, тесты, то есть работа должна быть непрерывной, постоянн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звивать навыки работы с орфоэпическим словар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Активно использовать слова, включать их в тексты, предлож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имеры задани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сставить ударения в слов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асставить ударения в словах и расположить их по алфави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пользовать орфоэпический словарь при работе со словами, в которых чаще всего делают ошибки при произношен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   с фразеологическими  оборотам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000" y="2017800"/>
            <a:ext cx="867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ы заданий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 Замените данные фразеологизмы синонимами или синонимичными выражениям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час по чайной ложке (Очень медленно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Запишите фразеологизмы, в которых есть упоминание о числе.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емь пятниц на неделе, заблудиться в трех соснах, с пятого на десятое и т.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3. Раскройте, какие фразеологизмы здесь спрятаны:</a:t>
            </a:r>
            <a:br>
              <a:rPr sz="2400"/>
            </a:b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едонгиеасспсмб (сам себе господин), ияскзбвяетрьув (взять себя в руки), вчьуоутлвсдоотпе( толочь воду в ступ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546120"/>
            <a:ext cx="8298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«…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аланты являются всюду и всегда, где и когда существуют условия, благоприятные для их развития»</a:t>
            </a:r>
            <a:br>
              <a:rPr sz="2400"/>
            </a:br>
            <a:br>
              <a:rPr sz="2000"/>
            </a:b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95280" y="21337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755640" y="2286000"/>
            <a:ext cx="64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ча семьи состоит в том, чтобы вовремя увидеть, разглядеть способности ребёнка, задача же школы – поддержать ребёнка и развить его способности, подготовить почву для того, чтобы эти способности были реализов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330960" y="4537080"/>
            <a:ext cx="24940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ния, связанные с историей языка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ория буквы Я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ие буквы исчезли и какие буквы появились в русском алфавит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ория букв Ё и Э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онетические старославяниз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разеологизмы со старыми названиями букв (сидеть на азах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оризмы и архаиз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ереводы старославянских текс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торические чередова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другие т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меры заданий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е 1.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осстановите термины, называющие отдельные  отрасли лингвистики. Что изучает каждая из н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…</a:t>
            </a:r>
            <a:r>
              <a:rPr b="0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логия, …графия, …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адание 2.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 букварях и орфографических пособиях 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XVII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– </a:t>
            </a:r>
            <a:r>
              <a:rPr b="0" lang="en-US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XIX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вв. этот орфографический знак называли </a:t>
            </a:r>
            <a:r>
              <a:rPr b="0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динитный, единительный, знак единительства.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Как называется этот знак сегодня? Каковы его функции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36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аким образом, участие в олимпиадах стимулирует переход школьников к более высокой форме учебной деятельности, мотивирует личностное и интеллектуальное развитие подрастающего поколения. Роль учителя в этом очень велик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круг его деятельности входит выявление одаренности у обучающихся, планирование работы с ними, подготовка к олимпиадам по русскому языку и литературе, а также последующая работа по развитию их одаренно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жно не потерять ни одного талантливого школьника и предложить ему разные формы последующей научно-образовательной работы. Лишь в  этом случае мы сможем вывести страну на более высокий и престижный уровень развития образов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дачи Вам в ваших начинаниях!!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СОВРЕМЕННЫЕ ПОДХОДЫ К ПРОБЛЕМЕ ОДАРЁННОСТ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Талант- результа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сложного взаимодействия наследственности и социальной среды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опосредованного деятельностью ребён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</a:rPr>
              <a:t>Школьное образование сегодня- решающий фактор индивидуального успеха и развития страны в дальнейше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285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mbria Math"/>
              </a:rPr>
              <a:t>К группе одарённых детей могут быть отнесены дети, которые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меют более высокие по сравнению с остальными интеллектуальные способнос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меют доминирующую,  активную, ненасыщаемую познавательную потребнос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пытывают радость от умственного труд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ля таких детей характерна высокая скорость развития интеллектуальной и творческой сфер, глубина и нетрадиционность мышл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обходимо разработать отдельную программу по подготовке к олимпиад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оставить индивидуальный образовательный маршрут для каждого члена коман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рганизовать работу учащихся с психолого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Форма работы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ндивидуаль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групповая (в малых группах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амостоятель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актические занятия      тренировоч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характе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Объект 6" descr=""/>
          <p:cNvPicPr/>
          <p:nvPr/>
        </p:nvPicPr>
        <p:blipFill>
          <a:blip r:embed="rId1"/>
          <a:stretch/>
        </p:blipFill>
        <p:spPr>
          <a:xfrm>
            <a:off x="5857920" y="4000680"/>
            <a:ext cx="29620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тоды работ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исков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блем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сследовательск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вор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6143760" y="3857760"/>
            <a:ext cx="148752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7164360" y="5084640"/>
            <a:ext cx="1606680" cy="1462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371240" y="404280"/>
            <a:ext cx="6945480" cy="572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онтрольно-измерительные материал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лимпиадные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с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ксты для различных видов разбо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ворческие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езент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Олимпиады по русскому языку  должны продемонстриров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631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ладение орфоэпическими нормами русского литературного языка (ударение, произношение твердых и мягких согласных, непроизносимые согласные и т. д.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истории русского алфавита и основных этапов становления русской орфограф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семантической системы современного русского литературного языка, элементарную осведомленность в происхождении слов и понимание закономерностей исторического развития лексического значения слов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ние русской фразеологии и умение анализировать функционирование фразеологизмов в художественном текст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6T10:28:25Z</dcterms:created>
  <dc:creator>Marina</dc:creator>
  <dc:description/>
  <dc:language>en-US</dc:language>
  <cp:lastModifiedBy>людмила</cp:lastModifiedBy>
  <dcterms:modified xsi:type="dcterms:W3CDTF">2022-10-25T07:29:00Z</dcterms:modified>
  <cp:revision>95</cp:revision>
  <dc:subject/>
  <dc:title>Педагогический совет   «Работа  с одаренными детьми  в современных условиях 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